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EF8-1C5A-4562-8DC9-71291E5C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867-3898-4EA4-864B-9CFAA84F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92011-F0F2-4185-A97D-E2D1022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B738-91A8-4C8F-9032-9D5260DE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E00A5-D140-4542-A775-B73E06A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DFF2D-0CB3-492A-966A-DE5ACE7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CE6C-2887-42D4-AE44-0923F8D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FD381-A8BD-48C0-BA23-93903E3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CBB9-E93E-4FF3-AA78-A09BD2B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8B6E-77C7-46F0-8CDD-83C96F23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AB292-A221-48F6-9E60-A875CDE2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31970-EBB5-4B40-AFB9-78ADC543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636-33C0-46ED-A8F8-44C8F45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CDBB6-F140-4B38-93AB-9FBEA6D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B4339-A283-4428-8474-752E5B9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5C639-3682-4C17-8F5D-3B159B67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E1A42-07B3-43B2-BBD4-16B89EA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8CCFB-5BCC-40D4-BA8A-913BD1FE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5F01-266F-4A64-AE16-C63DBE8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BB9EC-C29C-46F5-908F-85F3234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F0EFD-2A0F-4289-80ED-7B1C4A9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14467-BCB9-45C3-B719-22B3C57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EF467-10C7-4D27-96E1-AD6BFFF2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8B0-DFE7-40F3-8A03-712F3DD1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4C393-5850-45F3-8A85-9E3436F2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A1958-4675-4C3A-AD0B-AAD85DFB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FD926-E89C-4449-9089-38D5C43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10A20-2BE0-4C9E-8D65-00BC81D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4DB3F-3E0F-403C-8474-3B7DD64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C9344-3EED-44B8-ADB0-CF523939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C6562-D490-41D5-95AD-B4215A5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00B2C-DEE5-4393-B968-C7FA0CA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4E701-9533-4E92-9AE8-155C175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9330-33C2-4F3A-8A57-85E159CB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3C3-E542-4F9C-82F7-02AB2123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266A1-2087-4D33-B2F2-6B98D3AB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8828-3C8F-4B3E-BB82-3F314B1D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7172E-D273-4311-AE3C-C4A981E4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7E15-BBE7-4DE5-AA82-7809B3D4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A922E-582D-4CDC-A3AE-E27A79C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CC33A-FAFB-42C9-8817-998CAA1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E1EBA-997C-4558-BB79-C153BBC4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357DB-564C-41E8-B0EA-DBAC1CBD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ED684-8DB8-4437-82E9-1BCA0AC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84D99-16DB-42EF-9616-9D590DB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0E4E-953D-4C8A-AD8C-3F6FF77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10D6-3600-4649-BDD6-F0F2C69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30F87-3612-460D-BCC1-FB23EE6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BAB76-0747-4D36-A445-100861F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9BA1-85B6-4A25-B284-4610586C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AE481-5047-4A02-8B99-BCD2AA5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571A0-2F74-4257-8DBC-DBF337A9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850CA-4B0C-46FB-A58B-8EDACD17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32EF1-53DC-47E8-9D1B-7E3A2FE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4B84D-4B7D-44DE-A936-5D70373D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50909-B784-442F-A64C-0067E75C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776-34B0-4A92-BBB1-A8DC3BD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8B37-3592-4813-BA7D-9D18C5F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48EF6-1557-4BDC-AD2A-FF57873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4BE3C-9C70-445E-AE47-8CF1BAD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53F66-92E3-4E27-A151-F7AE6C0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0C3C8-2F61-4B5B-A713-38082BB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F2C71-D07F-43D4-AA40-32E8EC82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3E229-7356-447B-BA31-A2BB92CE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DF6E3-DE00-48E9-82A3-C566A234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2A5CE-F233-40C1-B442-07F676E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B582B-52D3-4D58-8265-6BBE39D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F4BC-E71C-4624-AF24-54CB1E8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2EBE0-88FB-43B0-9C26-01DF4E5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1208E-BB06-4F58-B43E-478B1ED1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93F57-7CCB-4B2A-9893-B5F5CE1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64BA3-1547-4111-9840-120B6C2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CE0BF-81BA-4345-8318-FF826F5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43C3D-9068-4F05-90ED-B8E4C01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29D15-3D83-42A0-B0C3-B3B1D21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5113D-50B4-46DD-A6AD-A886711D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93D00-77D9-48EA-9E59-C25F8A22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EF22A-B461-41AC-8355-86AFC438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FF25-3F84-445D-AD8D-C4207B1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B0088-3C36-4AD3-AD27-C8E9A6D2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6489C-6F6E-49AA-83CD-9DCC9BED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39E1C-D83A-4E06-9F2B-74DA73A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AEB95-365D-40DA-912C-568C8CD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1F94A-1D7B-4548-AE85-21333CA5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09F5F-E8A8-4707-AF3F-9F5FC154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EB44C-5B83-466F-AD8F-3F72975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1A63D-EC0A-427D-B7C3-378BCB0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01DC3-7E04-44CA-9A86-E3C0046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9467F-CFDC-4070-89D6-B9C51FF4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B7C-FD91-41D2-A487-9219EB94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D541C-1D50-4FBE-A996-6EBA312F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E583F-0B62-4AC3-821B-D4DF4E9F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FE837-EDE6-4F53-A1AA-6FF6E586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8CCAE-A99D-408A-82B4-624792D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2D2CE-1DF7-49B5-93EA-5BB0625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2EAF6-A3C2-4EF0-8112-9A5D4474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DF1E1-585B-4DA8-A904-2E04D32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E89FE-3CC9-45CE-9E71-9DF1650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68939-A2BE-456C-9938-16963AC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9CAFA-9A65-43DC-B77A-38CAFABB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4D43-2DEC-4DE3-9963-A88B45D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9FE91-274A-42CB-BCB8-839FE5D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F0FB8-66BC-4C91-AD54-F2C13ADF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4FD92-C55B-4A61-9086-70FEC8EF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12906-5F15-45EA-882F-42A33402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699AD-DF57-475C-BB23-EA3AF90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3D7FE-E519-4D62-A7B1-F768A86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89078-5CD6-4699-A459-A55CCC75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05311-07BE-4C46-A992-830CD52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BBD10-D86E-45AE-95D8-305490A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0171D-151E-4013-8F2E-A4D4172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3CA-23C4-42F6-BCEF-C9A3CCB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7B84-071D-46EA-8F7C-E497A138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2F93F-36AF-4E89-BCCF-14094A74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E6D79-0489-41D6-BC73-05FE868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13CF4-6FBC-41B5-8B68-1AC6287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3BB2C-0063-40DF-8BC0-90EE70E3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A1D00-26BE-4745-9466-EA6372AF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37D19-1843-4684-9A05-FFF5A95E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54B3B-747C-4F3A-8DF1-475EF21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CE060-3698-4228-B8AB-83171187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E8E9C-AF44-4562-82BE-9CCDA74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EAA7A-BF67-484F-861D-715C572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C1F9-5144-41F3-8FD3-13EA19A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67F43-94F8-4B5C-B8A5-C26F3A1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85490-800C-4AF6-8A87-B3CCC58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45B69-9B2E-4F3A-83D5-4CA5669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3E0BE-9D28-4C4B-ACC7-86D9D46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835BC-BE53-472F-AC9D-48CFCF7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CDCDA-A43A-44C9-B250-F800CAB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4D753-9391-4948-A70B-5FAB933F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C45EE-186A-4C3A-839E-91B05054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7AB4F-3DE7-4251-9AB2-183ED008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2A7B0-3354-41D5-8AE8-BE0668C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EA2-126F-492A-8129-1CDDE6CA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320F6-F675-4559-8403-AF8110C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F0B29-D3A4-478E-9F0A-254412F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65DC0-80D0-4A3E-A386-C498EB2C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E7808-F2F3-4022-B66F-F91CBF9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7B834-32A6-4DC6-959A-1B05545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A0FBD-F37A-44F6-8AB3-DAB06F1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A6D2E-AFEB-4230-BACF-30CA3E3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0E210-CEA4-4AB5-A66A-705E9ED0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58E40-D1BB-41E0-9491-0905F952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3FF34-2E3A-4319-8D5B-B766F3DC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CF5-BDAC-4FA2-9247-1A6F0715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3A64F-3074-4EBA-94CC-48288AEE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C9AE4-8F7A-438E-98C0-00397B91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CEC22-0B30-442E-900F-7119DEE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F1B30-97B6-4C11-ABCE-A7C47C16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8E870-9068-4E92-B776-78E4BF8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B9BDA-81DE-4626-B39D-65F47CF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3C4BB-937F-4435-BE4C-4BCF492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1C063-FBD7-4A8E-9BE7-D9C91EF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76A28-841D-44DE-A540-13C563E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BA5E8-D2E8-4658-AC4E-4CC2B214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9A4-1A71-4ED2-AAF8-5242AF39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8FE1F-D863-4D03-A20D-42E9FC34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29461-0517-4A2F-A431-A31B36F7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14262-8FDB-429C-B4E7-00875A2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7D682-A3F9-475F-A053-C3EFA35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FE1C4-7527-4008-BCC8-B385355D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304E2-A95E-4D22-B373-9DE59AA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28C47-D8D4-4019-B375-5A55113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5DEBB-32AD-49E6-992C-223DF26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BC3E4-0C94-4DD0-BDA8-2EB102C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0C1E0-2903-44FF-8E6B-9D46B12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B962-66C8-44DD-9825-460794F0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EB172-6DC9-4898-92AB-776D9FF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1E795-8D88-485F-AD2A-2AE2F0F5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8601D-6063-47C5-97F0-3CFACE24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F0C5-CCA2-40FD-B249-5742F9A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0141-93AA-4E1A-9851-FAA0F98D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F424-A006-444F-A5F0-E0CA693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FF9F-3A17-4DF2-A11C-C29277E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C52-8A66-4DEB-B3EC-2BDBDA4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66BD-8DE6-4BD1-9BAD-FFC3EBB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BA7A-F49A-4A79-94A9-AB916E7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F91F-E3D4-4187-A6C9-E6736D3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B2A6-B93F-4426-952E-989A8767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C485-D67A-4953-AA7B-E534C0EE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CC75-3B50-45C9-AB6B-93DDFAD4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37C5-1F4D-4EA3-9106-CE49DE18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0E1E-2641-4C64-A4E0-1FB9F79E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2B36-36ED-4FF3-9B22-9251B57E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72F9-7624-43EA-B143-862CBDC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0E0-942A-4CAF-AE1A-2EDD72A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BEAC-4B84-4158-8D55-B99F576A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5BD8-7FBB-4A9F-9270-0F1CF3E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AC2B-DED7-4F0F-8899-5B6D94B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DDA5-A4F3-4F46-AD3F-1F33372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DB70-144F-4431-95C5-C1B8F0B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A1BB-0427-4A13-8770-CD5A2DD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BE46-8C56-463C-ADF6-F8027298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BC8D-6BD2-48FC-BAC4-7C6BEEA3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2EE9-9497-4BB0-ACE9-01344DEC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19DEE-416B-48CF-ADD9-FF35CDE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E15-29AE-427C-BC10-303F4A0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9C81-3CB7-4D73-98B5-2EE6C1D9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0407-A034-45C0-9F00-6AF23D5D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77F88-30A7-4164-8FB8-C17FEA0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6242-3C75-4402-9DF2-EA74095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E197-848F-4900-9910-9D72CBCE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FE4E-0400-4237-AB93-BFF8B1D4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922A-FF9D-434D-BA05-F419621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8A2B-4363-4658-93E7-654C1E5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88BA-7C7B-4F15-9B53-17DF9C6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71C6-24F9-42EB-ACD8-D8C3C580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1E6-C820-4803-ACC2-F083DAEC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8294-2F6F-48BF-8088-FC914186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834D-0B1E-4B57-A595-30EF367E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5DCD-9EC1-4626-BFD3-FBEBD329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8F93-212A-40A6-82D0-97DA41C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13DF-CF46-4EA7-9DF9-7F3AFC2F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2812-F2B5-48F0-AAE3-917AC08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EC17-0926-4186-A30C-5C9EE60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6BB1-153C-4AF6-AC9A-3C637E8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4E409-983C-4946-914C-4C5C50E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5FB3-0941-4DC1-A9E9-36300B3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DF8-A94E-4DF5-8622-EB06859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B6EFC-6C7E-48AC-B185-BC21845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2D28-2B04-42FA-B426-3C86A1FC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44784-E0F5-4299-8678-956386DA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33180-B353-47EF-A1CB-A66C3CAA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E41A-58AF-4890-9561-27F2BFB3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594E-CBF7-456A-9557-9D7F1939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086A-7B6A-40B6-BC94-E19AEFA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7971-47A1-4E5A-AB57-D4FD30D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4F3E-E732-41BA-8995-CE787E1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C547-D6C3-4891-877D-20529F6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0D2-FB5C-491F-AAB6-6B54A61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7CF1-5CA7-4596-94EC-0C44890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F2182-E6D0-4811-8DD0-DEB726B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81294-60EB-41B1-886A-3E6CEA2D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FB03-048C-4DBD-8155-50CB116A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1FC7-72B8-4F0E-AA61-3EA52393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13AF4-042D-472B-9704-8C59EC13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F8C8-9F8D-4717-8CF8-2DA1DA8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FBAD-8EB0-47CD-AFEC-7978A61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D3062-4A6E-46C3-B159-2FA1F9FC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794E-7ECB-4B35-AE67-384113D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495-CE7E-4F23-AE61-B0511EB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6610-D28E-4660-A893-AC073A2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A62E-0B30-4591-B3CA-09F532F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1D4C-45A7-444F-89D9-8FE963A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B2095-E584-4934-89EB-4F22825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D394-B26A-48C6-B6AD-9F552D9A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4A4B-1596-493F-9F67-FC7BA673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77E9E-E073-49E8-BBA2-512FE897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941C1-EA5B-400B-895B-6DEBD4F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31BD-7B1E-4B8F-A4D6-BB6D557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C5EB5-435D-45FA-8738-AA0F74B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3F5D-D6F9-489E-BC34-874C2087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01F2-D87A-46C8-9E9E-CBEFD1795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9E5-0A68-451E-A817-7D93C7524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EA4E-7AAF-4402-B31E-36077AC6D6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7AF-B884-422A-8F16-C22D4E610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1A0-53C9-483E-9B75-EBC9E32BD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4B3-C8FC-4556-8885-5B526E33B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011-5A2F-434C-8AF9-D2DE2592B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617-A418-4C71-91A2-29CCB7E74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E9D-0863-4AA3-B69F-EBDD7C9CA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79A5-5A35-443D-B380-AFA867030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4BB-2764-4840-8920-58DEF74E8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4232-7D6B-4399-8FB1-24293B2F1A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9F5-599D-42CC-A92A-6C3E127F6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831-4BCC-4C07-9DEF-2DF327A73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70B-6CF7-4889-B6AF-78EFAEBCE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C4E-FB74-487E-AD91-128C1EB3B8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019-D5A9-4A98-A716-68E279D11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50A-3615-4395-AB57-82E8AAC0C3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1D6A-7630-481C-8E43-EFD3EDEFB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024-2268-4609-9E7C-941D33218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FB24-9F67-45BF-A79A-23D587515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B9A3-870E-47A7-80F4-FA56E0603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5E1-8927-467A-8DA9-3BC6980F4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3570-ED0F-4914-92AC-7E876832F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CC82-3D85-4E44-AD12-F9CC2342D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2158-124D-408C-8609-0FE21075D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981-8786-4C84-872A-B2A9694DD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2546-778A-4E2F-97F7-FD3763009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7E3-124B-4D2A-8D99-AFC89D5E0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E9A-5DF0-46C1-A845-B036B287B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59EE-4C4D-4147-8D61-EB207B647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6F2-D7A4-479D-9407-68481EE38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A1E-36EE-43BA-A150-918F5C797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C23F-D235-41EB-9B14-8F2DD52EF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8C29-1C2D-4F77-B475-A958AF057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E547-A385-40B8-8FBC-3701E8EA8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873-BE36-4914-BBC0-576CEBC99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5E1-C47C-46C6-95DE-EC13D4BF88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8A6C-189B-4854-AB52-E50DF9C438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614600" y="3247920"/>
            <a:ext cx="61722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457200" y="890640"/>
            <a:ext cx="8229600" cy="5753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2000160" y="2286000"/>
            <a:ext cx="285840" cy="270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3786120" y="2286000"/>
            <a:ext cx="285840" cy="270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6168960" y="2268360"/>
            <a:ext cx="285840" cy="270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7947000" y="2278080"/>
            <a:ext cx="285840" cy="268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2714760" y="4786200"/>
            <a:ext cx="285480" cy="270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3214800" y="4857840"/>
            <a:ext cx="285480" cy="269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3714840" y="4857840"/>
            <a:ext cx="285840" cy="269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4143240" y="4857840"/>
            <a:ext cx="285840" cy="269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714920" y="4819680"/>
            <a:ext cx="285840" cy="27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5214960" y="4857840"/>
            <a:ext cx="285840" cy="269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5643720" y="4857840"/>
            <a:ext cx="285480" cy="269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6215040" y="4857840"/>
            <a:ext cx="285840" cy="269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2192400" y="5865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4303800" y="5875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6421320" y="58579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8437680" y="58579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2197080" y="62946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4308480" y="6303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6426360" y="628668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21"/>
          <a:stretch/>
        </p:blipFill>
        <p:spPr>
          <a:xfrm>
            <a:off x="8542440" y="628668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1" descr=""/>
          <p:cNvPicPr/>
          <p:nvPr/>
        </p:nvPicPr>
        <p:blipFill>
          <a:blip r:embed="rId1"/>
          <a:stretch/>
        </p:blipFill>
        <p:spPr>
          <a:xfrm>
            <a:off x="804960" y="1981080"/>
            <a:ext cx="7534080" cy="3162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"/>
          <p:cNvPicPr/>
          <p:nvPr/>
        </p:nvPicPr>
        <p:blipFill>
          <a:blip r:embed="rId2"/>
          <a:stretch/>
        </p:blipFill>
        <p:spPr>
          <a:xfrm>
            <a:off x="1606680" y="4697280"/>
            <a:ext cx="1866600" cy="457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5" descr=""/>
          <p:cNvPicPr/>
          <p:nvPr/>
        </p:nvPicPr>
        <p:blipFill>
          <a:blip r:embed="rId3"/>
          <a:stretch/>
        </p:blipFill>
        <p:spPr>
          <a:xfrm>
            <a:off x="5187960" y="4678200"/>
            <a:ext cx="1866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1890720" y="1895400"/>
            <a:ext cx="5362560" cy="3067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2"/>
          <a:stretch/>
        </p:blipFill>
        <p:spPr>
          <a:xfrm>
            <a:off x="2214720" y="4643280"/>
            <a:ext cx="18572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1" descr=""/>
          <p:cNvPicPr/>
          <p:nvPr/>
        </p:nvPicPr>
        <p:blipFill>
          <a:blip r:embed="rId1"/>
          <a:stretch/>
        </p:blipFill>
        <p:spPr>
          <a:xfrm>
            <a:off x="3805200" y="1647720"/>
            <a:ext cx="1533600" cy="4210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2"/>
          <a:stretch/>
        </p:blipFill>
        <p:spPr>
          <a:xfrm>
            <a:off x="4857840" y="2525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3"/>
          <a:stretch/>
        </p:blipFill>
        <p:spPr>
          <a:xfrm>
            <a:off x="4900680" y="29163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4"/>
          <a:stretch/>
        </p:blipFill>
        <p:spPr>
          <a:xfrm>
            <a:off x="4818240" y="332748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5"/>
          <a:stretch/>
        </p:blipFill>
        <p:spPr>
          <a:xfrm>
            <a:off x="485784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6"/>
          <a:stretch/>
        </p:blipFill>
        <p:spPr>
          <a:xfrm>
            <a:off x="4848120" y="4133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7"/>
          <a:stretch/>
        </p:blipFill>
        <p:spPr>
          <a:xfrm>
            <a:off x="4848120" y="45626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8"/>
          <a:stretch/>
        </p:blipFill>
        <p:spPr>
          <a:xfrm>
            <a:off x="4908600" y="49705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9"/>
          <a:stretch/>
        </p:blipFill>
        <p:spPr>
          <a:xfrm>
            <a:off x="4930920" y="539892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14:45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